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E00-EBF0-4F18-9528-9D300773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7FA-0F82-45FE-B0DC-9EE9B895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8A9-F6AD-4E7E-BFBC-B23C9C10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B6C-20CC-48EB-9E5B-E94871B1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027A-026F-40BF-B9DB-A8D1D6C7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7899-5EAC-4756-A0E9-A41BA8BB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6FF-C8DB-4293-ADD1-EDD2853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9BF4-0250-4410-A260-1FDC5CDF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A951-DC94-4A5C-8444-58748AD6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765F-0004-49DF-A53E-47EC76D2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B1A3-0CF2-4255-B1C2-F48F25E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60A-3D9B-42BD-AF71-FFDADC6F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38C6-1F82-4975-9216-CBBF619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E10-1CA0-490A-A24F-529764A8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9F6A-17D7-4E77-A809-BB9F823C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2A2C-78DA-4B6B-8099-E87E597A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5E33-DE87-4F92-BEC6-FE12F1B3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C2F-BD48-44FF-842B-610F36CC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25E-F173-478C-9BF0-77A6C90C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BC6-6724-44A3-9A21-B39E9EF3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C78-0BC8-4AD4-9670-FD0D2494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7B3-0658-4929-923E-180D9F4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4F0-74CA-4CF3-9507-D6AC65B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8E7-7B6B-41EF-80F0-93C167C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CE7C-C2A8-42E0-BC9E-DD3DAEEA06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4DAC-33BA-4956-AE8C-075DD7159C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ПЛАТИВОСТ ИНВЕСТИЦИОНИХ УЛАГАЊ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PI = The Machinery and Allied Product Institute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ључно пит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Када треба заменити основно средство које је у употреби неким новим бољ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Треба минимизирати суму оперативне инфериорности постојећег средства у односу на трошкове које би изазвала нова инвестиц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 протоком времен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фериорн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преме у употреб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е стално повећа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 односу на неку бољу опрему која се тренутно могла набавити на тржиш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ва метода да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дговор на питањ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да ли опрему А треба заменити опремом Б и да ли је то исплати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же с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користи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иликом одлука о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аутоматизациј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унапређењу процес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основи метода је приступ да се приликом одлучивања о замен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занемаруј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већ настал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вестицион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први план се стављај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будућ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бог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брзих технолошких промен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пција замена опреме се разматра 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ре краја њиховог физиког века трај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ажно питањ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шта је то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најбоље ново основно средств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које би се могло набавити на тржиш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стојећа понуда на тржиш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удућа (очекивана) понуда на тржиш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шење дил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д 2. важи само ако је значајно боље него под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штина методе је да се бира измеђ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ећих инвестиционих трош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жег степена несаврше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жих инвестиционих трош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ишег степена несаврше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Циљ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инимизирати суму оперативне инфериор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остојеће опреме и трошкова изазваних набавком нове опр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 утврђивање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оперативне инфериорн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потребно је утврдити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оперативне трошков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одрж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ректни трошкови за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због застоја у 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лати и помоћни а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због шкарта на материј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интерног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у квалитету произ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лике у прихо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трошак погонске енер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ликом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прорачуна оперативне инфериор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потребно је зн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вољно је узети само податке за наредну год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ђу трошковима нема ни амортизације ни камата које су елементи инвестиционих улаг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перативна инфериорност старог строја добија се одузимањем оперативних предности старе опреме од од предности нове опр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4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3T04:46:30Z</dcterms:modified>
  <cp:revision>156</cp:revision>
  <dc:subject/>
  <dc:title>Soft and Hard Skills Development: A Current Situation in Serbian Companies</dc:title>
</cp:coreProperties>
</file>